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F295-497E-4754-9C2F-5B1E2A22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3DAA-412E-485F-A3CB-87984EF8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9D045-2AB8-427D-A90B-C1415397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E20B-47D5-44B1-AC03-471A1B20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82D6A-8D23-4EE5-B522-7E1FDE55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1CE3F-F40D-4584-9475-25B16B11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97C6C-A2B1-484D-86FE-0435FE53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5E51D-6254-48E4-ACB2-7944824B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07C7F-0713-4D5C-ADD8-AF513F59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72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8CC91-A5B0-4C63-9965-3F2EA6EF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8A485-56D1-4E57-9BB0-CA52234C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B79AE-8665-456B-85E8-F820C229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B6FFD-3B93-41D5-BB43-38C58669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CEF41-726D-4D05-BB24-1ABD1598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37B65-2023-43AB-892E-E4425080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7B33B-F4E0-4135-903F-B2B89CB3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564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4268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9972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A5489-DEEC-48D0-973F-1EAE52F5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3C386-F110-4D8F-B6B3-7625B7F9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0C358-0FCC-471C-82FA-DC679899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AE8A6-49F3-4D7E-846C-C1D2B2E0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C82EE-F949-4272-A90F-7C4C5EBB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EFF78-1BC5-40AC-B9BE-4D4515FA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4E4A-87CC-4D49-93B0-611B3BA5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72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7212EC-98F6-41ED-B0EC-479EB526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FDF40-6E61-4F9B-8F60-93E27A79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E9C72-64F5-4F56-AB1E-58FAE890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5554E-1E03-4A88-B064-DFA9DCB4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09C0F-0BBC-48E3-92CD-769D0156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42B84-C8E7-4AA8-B469-BBF4ABEC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564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4268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39972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AFA54-EEFA-4398-940D-5F7847B4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CE518-2A54-4740-B707-A852D708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1CF1-4060-4A30-AC8E-9E830BE2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72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0213-361B-40DB-B653-814EE76D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6850-5ECD-4197-81C5-7953E2F6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0CBA0-A4B3-45A8-9090-C279FB90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F60E8-46D5-43D1-B81F-9EFEA5BE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5AA3-1137-4665-8B18-53CA78B407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4000"/>
          </a:bodyPr>
          <a:p>
            <a:pPr marL="28800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715680" cy="6468840"/>
            <a:chOff x="0" y="0"/>
            <a:chExt cx="9715680" cy="6468840"/>
          </a:xfrm>
        </p:grpSpPr>
        <p:grpSp>
          <p:nvGrpSpPr>
            <p:cNvPr id="42" name=""/>
            <p:cNvGrpSpPr/>
            <p:nvPr/>
          </p:nvGrpSpPr>
          <p:grpSpPr>
            <a:xfrm>
              <a:off x="2916360" y="3343680"/>
              <a:ext cx="6792840" cy="3125160"/>
              <a:chOff x="2916360" y="3343680"/>
              <a:chExt cx="6792840" cy="3125160"/>
            </a:xfrm>
          </p:grpSpPr>
          <p:sp>
            <p:nvSpPr>
              <p:cNvPr id="43" name=""/>
              <p:cNvSpPr/>
              <p:nvPr/>
            </p:nvSpPr>
            <p:spPr>
              <a:xfrm>
                <a:off x="2916360" y="3963960"/>
                <a:ext cx="4860720" cy="25030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37280" y="4003920"/>
                <a:ext cx="2122560" cy="1213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894200" y="5016240"/>
                <a:ext cx="4805280" cy="145080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637160" y="3343680"/>
                <a:ext cx="5072040" cy="3125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94560" y="3473640"/>
                <a:ext cx="2103480" cy="8060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5605560" y="2010600"/>
              <a:ext cx="3078000" cy="23029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715680" cy="26614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321000" y="5904000"/>
            <a:ext cx="3076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965640" y="590400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DejaVu Serif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FEE6-5A8D-4D47-8635-0CD33BD70DBE}" type="slidenum">
              <a:rPr b="0" lang="ru-RU" sz="1200" spc="-1" strike="noStrike">
                <a:solidFill>
                  <a:srgbClr val="ffffff"/>
                </a:solidFill>
                <a:latin typeface="DejaVu Serif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485280" y="590724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715680" cy="6468840"/>
            <a:chOff x="0" y="0"/>
            <a:chExt cx="9715680" cy="6468840"/>
          </a:xfrm>
        </p:grpSpPr>
        <p:grpSp>
          <p:nvGrpSpPr>
            <p:cNvPr id="91" name=""/>
            <p:cNvGrpSpPr/>
            <p:nvPr/>
          </p:nvGrpSpPr>
          <p:grpSpPr>
            <a:xfrm>
              <a:off x="2916360" y="3343680"/>
              <a:ext cx="6792840" cy="3125160"/>
              <a:chOff x="2916360" y="3343680"/>
              <a:chExt cx="6792840" cy="3125160"/>
            </a:xfrm>
          </p:grpSpPr>
          <p:sp>
            <p:nvSpPr>
              <p:cNvPr id="92" name=""/>
              <p:cNvSpPr/>
              <p:nvPr/>
            </p:nvSpPr>
            <p:spPr>
              <a:xfrm>
                <a:off x="2916360" y="3963960"/>
                <a:ext cx="4860720" cy="25030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37280" y="4003920"/>
                <a:ext cx="2122560" cy="1213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94200" y="5016240"/>
                <a:ext cx="4805280" cy="145080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37160" y="3343680"/>
                <a:ext cx="5072040" cy="3125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94560" y="3473640"/>
                <a:ext cx="2103480" cy="8060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605560" y="2010600"/>
              <a:ext cx="3078000" cy="23029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9715680" cy="26614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7"/>
          </p:nvPr>
        </p:nvSpPr>
        <p:spPr>
          <a:xfrm>
            <a:off x="3321000" y="5907240"/>
            <a:ext cx="3076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8"/>
          </p:nvPr>
        </p:nvSpPr>
        <p:spPr>
          <a:xfrm>
            <a:off x="6965640" y="5910120"/>
            <a:ext cx="22669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DejaVu Serif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C75C-DF7C-4EA9-9819-51944916804C}" type="slidenum">
              <a:rPr b="0" lang="ru-RU" sz="1200" spc="-1" strike="noStrike">
                <a:solidFill>
                  <a:srgbClr val="ffffff"/>
                </a:solidFill>
                <a:latin typeface="DejaVu Serif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9"/>
          </p:nvPr>
        </p:nvSpPr>
        <p:spPr>
          <a:xfrm>
            <a:off x="485280" y="590400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8000" y="1628640"/>
            <a:ext cx="9504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Times New Roman"/>
                <a:ea typeface="Arial"/>
              </a:rPr>
              <a:t>МИНИСТЕРСТВО ЗДРАВООХРАНЕНИЯ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Times New Roman"/>
                <a:ea typeface="Arial"/>
              </a:rPr>
              <a:t>ЗАПОРОЖСКОЙ ОБЛАСТ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ГБУЗ  «Васильевский центр первичной медико-санитарной помощи»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Главный врач – Тертыця Марина Викторовна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56000" y="360360"/>
            <a:ext cx="720720" cy="941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55640" y="431640"/>
            <a:ext cx="813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Times New Roman"/>
              </a:rPr>
              <a:t>Государственное бюджетное учреждение здравоохранения Запорожской области «Васильевский центр первичной медико-санитарной помощи»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4824360"/>
            <a:ext cx="84596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just">
              <a:lnSpc>
                <a:spcPct val="80000"/>
              </a:lnSpc>
              <a:spcBef>
                <a:spcPts val="8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66"/>
                </a:solidFill>
                <a:latin typeface="Garamond"/>
              </a:rPr>
              <a:t>Приглашаем на работу</a:t>
            </a:r>
            <a:endParaRPr b="0" lang="en-US" sz="3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8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66"/>
                </a:solidFill>
                <a:latin typeface="Garamond"/>
              </a:rPr>
              <a:t>                 </a:t>
            </a:r>
            <a:r>
              <a:rPr b="1" lang="ru-RU" sz="3400" spc="-1" strike="noStrike">
                <a:solidFill>
                  <a:srgbClr val="ffff66"/>
                </a:solidFill>
                <a:latin typeface="Garamond"/>
              </a:rPr>
              <a:t>медицинских специалистов!</a:t>
            </a:r>
            <a:endParaRPr b="0" lang="en-US" sz="3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8280" y="1471680"/>
            <a:ext cx="2278080" cy="1708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08320" y="1865160"/>
            <a:ext cx="3303720" cy="2028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797520" y="3240000"/>
            <a:ext cx="2519640" cy="189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925560" y="3473280"/>
            <a:ext cx="1990800" cy="1320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093080" y="1182600"/>
            <a:ext cx="2390760" cy="179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052880" y="863640"/>
            <a:ext cx="5473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Arial"/>
                <a:ea typeface="Arial"/>
              </a:rPr>
              <a:t>Главный врач ГБУЗ «Васильевский центр первичной медико-санитарной помощи» Тертыця Марина Викторовна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>
            <a:off x="3600360" y="431640"/>
            <a:ext cx="5616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ff"/>
                </a:solidFill>
                <a:latin typeface="Arial"/>
                <a:ea typeface="Arial"/>
              </a:rPr>
              <a:t>Администрация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248000"/>
            <a:ext cx="28083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ff99ff"/>
                </a:solidFill>
                <a:uFillTx/>
                <a:latin typeface="Arial"/>
                <a:ea typeface="Arial"/>
              </a:rPr>
              <a:t>ТЕРТЫЦЯ Марина Викторовн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853920"/>
            <a:ext cx="288144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3024360"/>
            <a:ext cx="9001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БУЗ «Васильевский центр первичной медико-санитарной помощи» в настоящее время  - многопрофильное крупное медицинское учреждение, образованное в Щёлковском районе в 1963 году, к настоящему моменту пережившее множество реорганизаций и руководителей.  Учреждение является многофункциональной больницей, имеющей стационар мощностью в 400 коек круглосуточного пребывания, оказывающее квалифицированную и специализированную медицинскую помощь населению Щёлковского района. В состав учреждения входят: 2 стационара хирургического профиля (хирургическое отделение, гинекологическое, травматологическое, урологическое, отделение анестезиологии- реанимации, офтальмологическое, оториноларингологическое,  дневной гинекологический стационар), взрослая и детская поликлиники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00760" y="1585800"/>
            <a:ext cx="965160" cy="128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760920" y="1560600"/>
            <a:ext cx="1823760" cy="1211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13520" y="23796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187720" y="1490760"/>
            <a:ext cx="1277640" cy="1363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241720" y="168120"/>
            <a:ext cx="2043000" cy="1235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740120" y="142920"/>
            <a:ext cx="1943280" cy="1285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187200" y="168120"/>
            <a:ext cx="1764000" cy="235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7120" y="406440"/>
            <a:ext cx="81932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Наши ваканс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"/>
          <p:cNvSpPr/>
          <p:nvPr/>
        </p:nvSpPr>
        <p:spPr>
          <a:xfrm>
            <a:off x="2470320" y="1920960"/>
            <a:ext cx="521316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804080" y="1015920"/>
            <a:ext cx="1641600" cy="1704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74680" y="1015920"/>
            <a:ext cx="1728720" cy="15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2352600" y="1157400"/>
          <a:ext cx="4682880" cy="4598640"/>
        </p:xfrm>
        <a:graphic>
          <a:graphicData uri="http://schemas.openxmlformats.org/drawingml/2006/table">
            <a:tbl>
              <a:tblPr/>
              <a:tblGrid>
                <a:gridCol w="2836440"/>
                <a:gridCol w="1846440"/>
              </a:tblGrid>
              <a:tr h="77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фессии (специальности), долж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е количество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- терапе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общей прак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– специалист (руководители и их заместител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- стати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- педиат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6T07:50:13Z</dcterms:created>
  <dc:creator>Хмелева Елена Ю.</dc:creator>
  <dc:description/>
  <dc:language>en-US</dc:language>
  <cp:lastModifiedBy>Миронова Екатерина Александровна</cp:lastModifiedBy>
  <dcterms:modified xsi:type="dcterms:W3CDTF">2024-05-06T10:46:39Z</dcterms:modified>
  <cp:revision>116</cp:revision>
  <dc:subject/>
  <dc:title>Государственное бюджетное учреждение здравоохранения Московской области «Мытищинская городская  поликлиника № 5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