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7613-EC7E-4236-ABAE-6819F4FD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D8CC-DCC4-4B64-87C0-544A2F0B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C59C-FC17-4ED9-A839-12FEC09A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766A-E6CB-44C8-BF33-7B912E6B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4B8D4-F0D5-46E1-ACBA-EAF24B55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E6E29-4FDA-4B58-9A27-40E0E836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6421-6FAF-4884-89DB-89ADC0D4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FD5B5-EE7D-4D29-8EC2-DEF9E4F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1CD65-31E8-4D73-96F4-DF3CD90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8D7BD-4DC8-4AF9-8A89-774D5E0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EC227-0E10-437B-A40F-54E834F0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400B-3A6D-46DE-9A73-ABE18E5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2BE53-2CDA-4A7F-939F-B5DCC711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01CB7-FD3A-47B4-AFAE-61CA32B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89FB9-12A6-47C7-8090-0C2ABCD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CFB4E-F8C2-4591-97F3-5DBC95A3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C074-A5DE-495A-8E54-19C1AAB1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7D429-7713-4C2C-8537-2F7222A7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26ECC-EB5E-4BA9-B804-1A107005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FE432-977E-4E6E-AC59-4BA3AB15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9F784-2121-4C73-90B6-D01932D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7F53A-48B3-435A-B1B8-0531919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71A5-D5AD-4212-BE4A-19B30B48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7BB29-1504-463B-9FF1-7F369D4E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DBC65-EE2E-4A1E-A5F4-5B055E9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52B49-47BE-4094-9ED6-AC01661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A013D-7626-49A2-810C-C10A085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7F818-81DE-4F8D-A736-DA89A683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78441-C67E-43F6-9688-C7B407CA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BB88B-25A3-4F4A-AC6B-99F0784C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E1EA-4BC9-44E9-B54E-2962767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22C8-9785-4CD8-A6D1-F5AA4043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FE01-873F-4B47-8363-DB5146C5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4A4E-D6BA-418B-AB70-71E7D24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9F55-8815-4C9D-9D23-AD16A6EB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0279-5965-4C92-A89B-0A53273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23AF-7C05-487E-8607-D00F1D2430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4000"/>
          </a:bodyPr>
          <a:p>
            <a:pPr marL="28800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42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43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321000" y="590400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96564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5DE-7726-4BDD-8919-C1C6FA4F69D6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85280" y="590724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91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321000" y="59072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8"/>
          </p:nvPr>
        </p:nvSpPr>
        <p:spPr>
          <a:xfrm>
            <a:off x="6965640" y="5910120"/>
            <a:ext cx="22669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D304-5C3C-4FF8-9D58-58267D2E4A3A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9"/>
          </p:nvPr>
        </p:nvSpPr>
        <p:spPr>
          <a:xfrm>
            <a:off x="48528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162864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МИНИСТЕРСТВО ЗДРАВООХРАНЕНИ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ЗАПОРОЖСКОЙ ОБЛА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БУЗ  «Васильевский центр первичной медико-санитарной помощи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врач – Тертыця Марина Викторовна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360360"/>
            <a:ext cx="720720" cy="94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3164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Times New Roman"/>
              </a:rPr>
              <a:t>Государственное бюджетное учреждение здравоохранения Запорожской области «Васильевский центр первичной медико-санитарной помощи»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824360"/>
            <a:ext cx="84596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just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Приглашаем на работу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                 </a:t>
            </a: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медицинских специалистов!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08320" y="1865160"/>
            <a:ext cx="330372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97520" y="324000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5560" y="3473280"/>
            <a:ext cx="1990800" cy="1320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18260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52880" y="863640"/>
            <a:ext cx="547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  <a:ea typeface="Arial"/>
              </a:rPr>
              <a:t>Главный врач ГБУЗ «Васильевский центр первичной медико-санитарной помощи» Тертыця Марина Викторовн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600360" y="431640"/>
            <a:ext cx="5616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ff"/>
                </a:solidFill>
                <a:latin typeface="Arial"/>
                <a:ea typeface="Arial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48000"/>
            <a:ext cx="280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99ff"/>
                </a:solidFill>
                <a:uFillTx/>
                <a:latin typeface="Arial"/>
                <a:ea typeface="Arial"/>
              </a:rPr>
              <a:t>ТЕРТЫЦЯ Марина Виктор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853920"/>
            <a:ext cx="28814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3024360"/>
            <a:ext cx="9001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БУЗ «Васильевский центр первичной медико-санитарной помощи» в настоящее время  - многопрофильное крупное медицинское учреждение, образованное в Щёлковском районе в 1963 году, к настоящему моменту пережившее множество реорганизаций и руководителей.  Учреждение является многофункциональной больницей, имеющей стационар мощностью в 400 коек круглосуточного пребывания, оказывающее квалифицированную и специализированную медицинскую помощь населению Щёлковского района. В состав учреждения входят: 2 стационара хирургического профиля (хирургическое отделение, гинекологическое, травматологическое, урологическое, отделение анестезиологии- реанимации, офтальмологическое, оториноларингологическое,  дневной гинекологический стационар), взрослая и детская поликлиники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00760" y="158580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60920" y="1560600"/>
            <a:ext cx="1823760" cy="121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13520" y="2379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187720" y="1490760"/>
            <a:ext cx="1277640" cy="136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41720" y="168120"/>
            <a:ext cx="2043000" cy="1235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740120" y="14292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87200" y="168120"/>
            <a:ext cx="176400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7120" y="406440"/>
            <a:ext cx="8193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ши вакан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470320" y="1920960"/>
            <a:ext cx="52131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4080" y="1015920"/>
            <a:ext cx="1641600" cy="170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4680" y="1015920"/>
            <a:ext cx="172872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352600" y="1157400"/>
          <a:ext cx="4682880" cy="4598640"/>
        </p:xfrm>
        <a:graphic>
          <a:graphicData uri="http://schemas.openxmlformats.org/drawingml/2006/table">
            <a:tbl>
              <a:tblPr/>
              <a:tblGrid>
                <a:gridCol w="2836440"/>
                <a:gridCol w="1846440"/>
              </a:tblGrid>
              <a:tr h="77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фессии (специальности),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терап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– специалист (руководители и их заместит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стат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педиа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50:13Z</dcterms:created>
  <dc:creator>Хмелева Елена Ю.</dc:creator>
  <dc:description/>
  <dc:language>en-US</dc:language>
  <cp:lastModifiedBy>Миронова Екатерина Александровна</cp:lastModifiedBy>
  <dcterms:modified xsi:type="dcterms:W3CDTF">2024-05-06T10:46:39Z</dcterms:modified>
  <cp:revision>116</cp:revision>
  <dc:subject/>
  <dc:title>Государственное бюджетное учреждение здравоохранения Московской области «Мытищинская городская  поликлиника № 5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